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55F-9EF5-43E2-B1BD-972CA57D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DB5-0078-4445-A63D-D74C26CC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275-BE3E-4936-ADFC-D49BBFD4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214-A5DF-40D2-B3AC-0427F8DC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0463-5525-4EED-8B26-746D0A6E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9456-709F-4C90-826C-1CD9824D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CE44-E7E1-42A5-8C0F-53FABD1E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1B36-1D88-4F13-A514-F14D2192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42EB-749E-417B-81C5-802F853C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32E5-9DD6-4CE1-9F59-38618664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AD46-248B-48FF-BD15-CC7BD0A5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F99-3A5F-4CF7-87E8-282C0C01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8AF6-A9B5-4F38-90F4-AEA0AEDD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D592-46E3-4DB7-9FE3-6622BBA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8E01-F6DF-492D-AA3D-877E5B88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DEC2-CF8C-4375-93F7-9EEA9AC6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A882-F7D5-4A01-B292-E4B7EB90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120-DDA4-495D-8381-5E169D9F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F47-16E2-4669-909C-D3E65651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068-8868-495D-839B-30278D24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5EF-1F9E-4411-ACAB-86FFDDA6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FA4-B168-42D6-A92D-D0B7147F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E24-416D-4DFB-A39F-80FF70BD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9B1-4621-4156-9160-9A4B3DBC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817C-CB64-4974-89BF-87B9C4EC385D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BDFA-C10C-40F0-8C27-4319235A2557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attern Composit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ncardi Matteo 603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guenz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nde più semplice l’aggiunta di nuove tipologie di compon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uove sottoclassi Leaf o Composite potranno essere utilizzate automaticamente nelle strutture esistenti e operare con il codice del client. Tali codici non dovranno essere modificati qualora venisse aggiunto un nuovo Compon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ò rendere il progetto troppo gener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vantaggio di rendere più facile l’aggiunta di nuovi componenti è che rende difficile limitare i componenti che fanno parte di una struttura composi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A00-B997-465C-9FE3-CD58B47F46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azi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35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umerosi sono gli aspetti da considerare quando si implementa il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i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ferimenti espliciti ai pad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mplificazione dell’attraversamento e della gestione (di una struttura composit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Riferimento al padre nella class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Mantenimento invariante padre-figli e vicever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Modificare il padre di un componente soltanto quando il componente stesso viene aggiunto o rimosso dalla struttura composita (inserire questa verifica nei meto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dd (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move(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ivisione di compon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Crea ambiguità memorizzare i riferimenti ai padri nei fig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Pattern Flyweigh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FA0-6AC0-4873-9F51-45EEFCAFB6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azione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ssimizzazione dell’interfaccia di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La classe Component dovrebbe definire il maggior numero possibile di operazioni       comuni alle classi Leaf e Compo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Può scontrarsi con il principio generale di progettazione delle gerarchie di clas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Un po’ di creatività può aiuta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chiarare le operazioni di gestione dei fig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Scelta tra sicurezza e traspare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Dichiarare metod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etComposite (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ella classe Component. Questa classe fornisce un’implementazione standard che restituisce un puntator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ull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mentre la classe Composite implementa il metodo in modo da restituire un riferimento a se stesso attraverso l’utilizzo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CB0-F7E6-497B-8540-9DDA65FF89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azi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197000"/>
            <a:ext cx="799128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metod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etComposite (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onsente di interrogare un componente per verificare se è di tipo Composite. Inoltre è possibile eseguire in modo sicuro i meto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dd (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move (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sull’oggetto composito restitui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 in questo modo non si possono trattare i componenti in modo uniform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porre trasparenza definire i meto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dd (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move (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on un’implementazione standard in Compon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 bisogna  e fare in modo che i due metodi abbiano un comportamento base che porta al fallimento dell’operazione se il componente interessato all’operazion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dd (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on può avere figli, oppure se l’argomento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move (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non è figlio di un altro compon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D61-FB14-462A-89BB-9E515CCEB7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azi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dinamento dei fig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necessario progettare interfacce per l’accesso e la gestione dei figli in modo appropriato per garantire il rispetto di questo vincolo. Il pattern Iterator può essere util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tilizzo di cache per migliorare l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Classe Composite come memoria cache (memorizzazione informazioni utili per la ricerca e l’attraversamento dei figl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I cambiamenti in un componente richiedono di invalidare la ca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27D-C837-4CBF-8601-E1870E8CE0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azi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 cancella i componen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VS responsabilità della classe Compo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eccezione nel caso di oggetti foglia immutabili e condivi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 è la migliore struttura dati per la memorizzazione dei componen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Oggetti compositi possono utilizzare una varietà di strutture dati per la memorizzazione dei propri figli (liste concatenate, array, alberi, tabelle has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59D-9ECF-4391-B018-39F525A3C1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dice d’esemp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434-4BAF-4840-BD4B-56846BB4E7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ttern correla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co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ttern spesso utilizzato con Compo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Se oggetti Decoratori e Compositi usati insieme, solitamente hanno una superclasse comune e in questo caso i decoratori devono supportare l’interfaccia Component con metodi quali Add (), Remove (), GetChild 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t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Fornisce un modo di accesso sequenziale agli oggetti presenti in una collezione, senza esporre la rappresentazione interna di que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Può essere utilizzato per attraversare le strutture compo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2983-9A6B-45B5-AF38-FE36BF11E8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ttern correla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Consente la definizione di nuove operazioni senza modificare le classi degli elementi sui quali ope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Localizza operazioni e comportamento che altrimenti dovrebbero essere distribuiti fra le classi Composite e Lea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109-1B2D-4C3F-B7D4-916087EECC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ttern correla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ly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co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tilizzare la condivisione per supportare in modo efficiente un gran numero di oggetti a granularità f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tiv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cune applicazioni potrebbero trarre beneficio dall’approccio a oggetti fin dalla progettazione, ma un’implementazione ingenua risulterebbe assai oner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empio: editor di docum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s"/>
          <p:cNvSpPr/>
          <p:nvPr/>
        </p:nvSpPr>
        <p:spPr>
          <a:xfrm>
            <a:off x="4716360" y="4653000"/>
            <a:ext cx="914400" cy="1295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6D3-B7D1-4239-A94C-516F58BE07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o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truttu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 occupano delle modalità di composizione di classi e oggetti per formare strutture comple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asato su ogg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crivono modalità di composizione di oggetti per realizzare nuove funzionalità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utilizzo della composizione tra oggetti fornisce flessibilità che deriva dalla possibilità di cambiare la composizione durante l’esecuzione, fatto impossibile se si utilizza la composizione statica fra clas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co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rre oggetti in strutture ad alber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ppresentare gerarchie parte – tutto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sentire ai client di trattare oggetti singoli e composizioni in  modo unifor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494-888B-430F-B15E-EC78CC4FA5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ttern correla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2057400"/>
            <a:ext cx="4952880" cy="3505320"/>
            <a:chOff x="838080" y="2057400"/>
            <a:chExt cx="4952880" cy="3505320"/>
          </a:xfrm>
        </p:grpSpPr>
        <p:grpSp>
          <p:nvGrpSpPr>
            <p:cNvPr id="151" name=""/>
            <p:cNvGrpSpPr/>
            <p:nvPr/>
          </p:nvGrpSpPr>
          <p:grpSpPr>
            <a:xfrm>
              <a:off x="838080" y="2057400"/>
              <a:ext cx="4952880" cy="3505320"/>
              <a:chOff x="838080" y="2057400"/>
              <a:chExt cx="4952880" cy="3505320"/>
            </a:xfrm>
          </p:grpSpPr>
          <p:sp>
            <p:nvSpPr>
              <p:cNvPr id="152" name="Form"/>
              <p:cNvSpPr/>
              <p:nvPr/>
            </p:nvSpPr>
            <p:spPr>
              <a:xfrm>
                <a:off x="838080" y="2057400"/>
                <a:ext cx="990360" cy="1066680"/>
              </a:xfrm>
              <a:prstGeom prst="pie">
                <a:avLst/>
              </a:pr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2666880" y="3048120"/>
                <a:ext cx="3124080" cy="2514600"/>
                <a:chOff x="2666880" y="3048120"/>
                <a:chExt cx="3124080" cy="25146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666880" y="3048120"/>
                  <a:ext cx="3124080" cy="25146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047760" y="3581280"/>
                  <a:ext cx="2362320" cy="4572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047760" y="4114800"/>
                  <a:ext cx="2362320" cy="4572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v a c a n z 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047760" y="4648320"/>
                  <a:ext cx="2362320" cy="45720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343400" y="41148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14800" y="41148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733560" y="41148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886200" y="41148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495680" y="41148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724280" y="41148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581280" y="41148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876560" y="41148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1371240" y="2743200"/>
                <a:ext cx="1295640" cy="28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71240" y="2666880"/>
                <a:ext cx="129564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71240" y="2666880"/>
                <a:ext cx="44197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1240" y="2743200"/>
                <a:ext cx="129564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1143000" y="2286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3000" y="236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3000" y="2438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43000" y="2514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3000" y="25909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2743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3000" y="2819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H="1">
            <a:off x="4190760" y="2438280"/>
            <a:ext cx="1447560" cy="175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21337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ggetti caratt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409720" y="3809520"/>
            <a:ext cx="11430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410080" y="43434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409720" y="4495680"/>
            <a:ext cx="114300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41148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ggetti r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51640" y="580536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ggetti col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/>
          <p:nvPr/>
        </p:nvCxnSpPr>
        <p:spPr>
          <a:xfrm rot="10800000">
            <a:off x="4284000" y="5083920"/>
            <a:ext cx="1181880" cy="9914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6A9-A186-494D-9036-2AB976EDCD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ttern correla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125360"/>
            <a:ext cx="2210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565360"/>
            <a:ext cx="1828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2637000"/>
            <a:ext cx="1828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4508640"/>
            <a:ext cx="6121440" cy="165708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62120" y="5089680"/>
            <a:ext cx="5790960" cy="533160"/>
            <a:chOff x="762120" y="5089680"/>
            <a:chExt cx="5790960" cy="533160"/>
          </a:xfrm>
        </p:grpSpPr>
        <p:sp>
          <p:nvSpPr>
            <p:cNvPr id="191" name=""/>
            <p:cNvSpPr/>
            <p:nvPr/>
          </p:nvSpPr>
          <p:spPr>
            <a:xfrm>
              <a:off x="762120" y="5089680"/>
              <a:ext cx="533160" cy="53316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7920" y="5089680"/>
              <a:ext cx="533160" cy="53316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9520" y="5089680"/>
              <a:ext cx="533160" cy="53316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33720" y="5089680"/>
              <a:ext cx="533160" cy="53316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38480" y="5241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9920" y="5089680"/>
              <a:ext cx="533160" cy="53316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00600" y="5089680"/>
              <a:ext cx="533520" cy="53316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4120" y="5241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5089680"/>
              <a:ext cx="533160" cy="533160"/>
            </a:xfrm>
            <a:prstGeom prst="octagon">
              <a:avLst>
                <a:gd name="adj" fmla="val 29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0" name=""/>
          <p:cNvCxnSpPr>
            <a:stCxn id="188" idx="2"/>
          </p:cNvCxnSpPr>
          <p:nvPr/>
        </p:nvCxnSpPr>
        <p:spPr>
          <a:xfrm flipH="1">
            <a:off x="1028520" y="2982960"/>
            <a:ext cx="3234240" cy="207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8" idx="2"/>
          </p:cNvCxnSpPr>
          <p:nvPr/>
        </p:nvCxnSpPr>
        <p:spPr>
          <a:xfrm flipH="1">
            <a:off x="3779640" y="2982960"/>
            <a:ext cx="483120" cy="199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8" idx="2"/>
          </p:cNvCxnSpPr>
          <p:nvPr/>
        </p:nvCxnSpPr>
        <p:spPr>
          <a:xfrm>
            <a:off x="4262400" y="2982960"/>
            <a:ext cx="805680" cy="207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86" idx="2"/>
            <a:endCxn id="187" idx="0"/>
          </p:cNvCxnSpPr>
          <p:nvPr/>
        </p:nvCxnSpPr>
        <p:spPr>
          <a:xfrm flipH="1">
            <a:off x="1669320" y="1471680"/>
            <a:ext cx="256788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86" idx="2"/>
            <a:endCxn id="188" idx="0"/>
          </p:cNvCxnSpPr>
          <p:nvPr/>
        </p:nvCxnSpPr>
        <p:spPr>
          <a:xfrm>
            <a:off x="4237200" y="1471320"/>
            <a:ext cx="25920" cy="1166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6" idx="2"/>
          </p:cNvCxnSpPr>
          <p:nvPr/>
        </p:nvCxnSpPr>
        <p:spPr>
          <a:xfrm>
            <a:off x="4236840" y="1471320"/>
            <a:ext cx="2135880" cy="102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5796000" y="2492280"/>
            <a:ext cx="1828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72360" y="476280"/>
            <a:ext cx="23032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lyweight oggetto condiviso che può essere utilizzato simultaneamente in più conte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16720" y="3789360"/>
            <a:ext cx="2303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inguere fra stato interno ed ester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568-04FE-43C7-8FD4-A51CB6EE2D8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iepilo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attern Composite racchiude due concetti potenti e correl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rimo è che un gruppo può contenere sia elementi singoli che altri grupp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ato a questo concetto, l’idea che sia i gruppi che gli oggetti singoli possano condividere un’interfaccia co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0EF-A17F-46FC-8159-D40D1BF6A8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osite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08960" cy="44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98D-A377-49E8-AA23-4A70D2CFC9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bilità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attern composite può essere utilizzato qua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vogliono rappresentare gerarchie di oggetti strutturati in gerarchie parte – tut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vuole fare in modo che i client possano ignorare la differenza fra oggetti singoli e composizioni di ogget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772-3F84-4B9B-9780-B25A43A0AC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uttu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545080" cy="416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0A1-0616-43F1-B608-A22933694A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uttu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79916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tipica struttura di oggetti Composite potrebbe ess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1844640"/>
            <a:ext cx="115272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198900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om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2924280"/>
            <a:ext cx="115236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2924280"/>
            <a:ext cx="115236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2997360"/>
            <a:ext cx="115236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437000"/>
            <a:ext cx="115272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4437000"/>
            <a:ext cx="115236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4437000"/>
            <a:ext cx="115272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2924280"/>
            <a:ext cx="1152720" cy="64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314172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om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14172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3141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27640" y="314172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6000" y="465300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45813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45813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50920" y="2492280"/>
            <a:ext cx="2089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563640" y="2492280"/>
            <a:ext cx="647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492280"/>
            <a:ext cx="287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492280"/>
            <a:ext cx="201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708000" y="3645000"/>
            <a:ext cx="934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3645000"/>
            <a:ext cx="1512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A28-1EE7-42D6-A250-9B3C9950CB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tecipan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ponent (Graph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Dichiara l’interfaccia per gli oggetti che fanno parte della compos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Implementa il comportamento standard comune a tutte le class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Dichiara un’interfaccia per l’accesso e la gestione dei suoi componenti fig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definisce un’interfaccia per accedere al componente padre nella struttura ricors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af (Rectangle, Line, Text, ec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Rappresenta gli oggetti foglia nella compos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Definisce il comportamento degli oggetti primitivi nella compos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posite (Pic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Definisce il comportamento per i componenti che hanno fig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Memorizza i componenti fig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Implementa le operazioni correlate ai figli definite nell’interfaccia Compon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Manipola gli oggetti della composizione utilizzando l’interfaccia Compon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90E-E0B1-425D-B417-6F04A64DA5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llaborazion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client utilizzano l’interfaccia della classe Component per interagire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oggetti della struttura composi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l’oggetto destinatario è una fogl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richiesta viene gestita dirett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l’oggetto è Compos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richiesta è solitamente trasferita ai suoi oggetti fig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791-18B6-4436-A3A9-A63077948F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guenz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attern Compos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finisce gerarchie di classi costituite da oggetti primitivi e composi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li oggetti primitivi possono essere composti per formare oggetti più complessi, che, a loro volta, potranno essere composti ricors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mplifica il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client possono trattare strutture composite e singoli oggetti in modo uniforme. I client non sanno se stanno operando con una foglia o con un componente  composi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BB1-19D3-4839-A806-4EFFEB0E80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8:51:13Z</dcterms:created>
  <dc:creator> marco</dc:creator>
  <dc:description/>
  <dc:language>en-US</dc:language>
  <cp:lastModifiedBy> marco</cp:lastModifiedBy>
  <dcterms:modified xsi:type="dcterms:W3CDTF">2007-02-20T16:09:22Z</dcterms:modified>
  <cp:revision>28</cp:revision>
  <dc:subject/>
  <dc:title>Pattern Composi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